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A246-70E4-4C02-9D3A-26F4F409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6F1-0D8C-4FF9-A8D6-5C404623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A7C72-A0AF-4E94-8FF5-B9C27BF6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7A718-E958-41AC-B22A-01F90BC8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BF6FB-B718-4101-AFD0-BD858A41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80D9E-2A7B-43E7-810A-05CE860C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C1261-1CE4-47CB-BCF7-73F1094B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48C66-242B-4CD2-95DF-C2169FE8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B007B-F4EC-4207-9617-D7BABDEF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BB02D-730B-4C2E-9315-6581239F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2F3FF-7C10-4C1B-B079-0AC5E7C1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1731B-B333-4170-A303-5DEB1794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535-34C1-4E38-96E7-FC3C8130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9A818-9384-4B6E-B7B3-ACF3B0E0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C4879-02D4-42F7-9CAE-17DD6863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18092-6EC2-416D-B90D-8F55AD82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5EF77-004A-4CF5-A8E0-D64F9463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5583B-426A-4122-BF5F-370BBE54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5883C-4EBA-40BD-B30E-8F4AC767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38D0C-ACBC-4D2B-BC22-9060DA2A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A19EE-460F-4D4C-8466-477D1590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D9CE0-A7BE-4CAF-9A9A-DE162230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FAA8D-14CA-4A93-A981-7AA2514B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96F-C74A-4ABE-8E68-E50275B3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FA98B-8ABB-4271-8FA6-BD4E96AA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78ECA-956E-4171-9DBC-B7F28E63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BB001-391C-4740-B7DA-CA384C03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6B21B-656A-452B-85A5-79940999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0C9AB-2199-4FD8-B1CF-BBAE34A9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75824-8123-4422-8C66-80F02DA7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D2600-8D0E-480C-8354-9C35BC71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05D2D-8A61-4F1E-A10D-FBE0F788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0EFC5-7E0B-47B1-8F93-083D6747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32EE9-3465-4505-ABD9-16552A65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C6B7-5D9B-4956-B1B8-FD0D19C0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7C7DD-08F3-4F86-8452-D899BEAA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91B47-6205-48BB-BDC8-C73E928F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61B9E-1253-45E7-9FEE-5CC342BE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43172-5491-490C-ACB8-F9BF8C1A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002C2-8A00-432C-B1CC-609BB2D3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836D8-9560-4C3E-9B47-3EC27007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962D6-1256-4534-9CAA-640EF8B1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A378F-3F22-4B45-9B0E-2A0E1F09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7D93D-A28F-4FAD-825C-719FC335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E19E0-FBE4-40D2-B94D-D59EB503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46EC-DB9F-44FF-96F9-9E0969FB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10566-9A12-4A09-A5FF-03806F66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00AAF-C061-499C-AC8B-899CCAA0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4F9AE-884E-4FDB-90DD-8622FB74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4DEC8-1451-490B-A465-1CF1C035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6C0C8-462D-4AA9-A6E0-CBAF5839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E02EC-87C7-4CCD-A41C-F6E95043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1D75A-F6D3-4423-849B-823F864D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3969E-905A-4E36-9EEB-8A604A5E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DC174-6754-4104-A061-7BA39317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4B0C72-4E08-4C28-9A85-800FE187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26DD-88DC-4DE2-8EB2-556634C2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DFECB7-6B59-4DE3-8F05-DC2657CE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FFC4AA-DAE3-48BE-8233-59BB5F7D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71EDD-8EC7-45EA-BABA-EE19C597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26D79-7103-419D-8AE2-72A341B6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D7CA19-A2F9-42DE-8DF0-F6761AEE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93A95-B8B2-4883-90AE-E7EF84BB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5220D-0108-4EEE-B2E2-759F8132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797B45-4C2F-438E-A615-E2269D5A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96CA4F-5E84-4BD1-B475-84416DBB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0DA57B-0B75-409F-89BD-3E552EC0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D94D-43BD-4F7F-BE6B-8AF834AB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AA6C0E-9EF1-4C8D-8FD3-A2BB6C20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3997C-B199-420C-953A-590C63F3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A0068D-2D05-4F11-8D8E-7035AE58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48EC0-409E-4AEE-879D-946C7AB6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E378F8-0C03-4CB8-BB55-C1198B75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984EAF-6EEE-4E97-92F5-27FBCA04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18BA33-2ED6-43B1-8A64-65C0FE74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059E0-A525-4B71-B09A-3D17B9C7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4F43D2-98CA-4B56-A50A-0E1C4DAA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706CF-A344-495B-B805-246D7826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0764-BD2B-45E8-A14F-0949934F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4E1A1C-5857-4FEC-B44C-995A82AB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8B89A5-A534-43FF-B9A8-560BF120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CF3CAD-68D1-4995-A811-AB2F3455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BBB2DC-B50D-49B1-8B6C-C00FEF4A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506802-B309-40AB-8FCD-296DB54B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AB6165-3096-4EFC-B47C-448A75FE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53E528-692D-46ED-8939-9C34F2A4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73B3F5-E686-4874-A181-68A998E9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59145B-96EE-4B3C-B5B6-F083FDA7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35FC8-11D0-44CC-887A-713C69E6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FC31-A004-4956-98C3-A89A0150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12DB88-2842-4226-8A22-98B35866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ABD192-EB96-4AA6-ACA7-63DA4E03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6A132-261C-4CF2-8814-D6DD84DA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AEF26F-B5A6-4C4D-9342-A3A25140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DAB37A-6A4A-4F0F-808A-1F2CD01D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9D17BF-6D14-4122-B6BC-E25AD658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2E8FAD-E785-40AD-93AF-B1382CBD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0EE184-97D2-4600-B0F1-2C297AD2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AFA944-52B9-4EEE-98DA-5C685F44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19CCAE-828F-49C9-8B70-4D7E4B65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DBF0-2125-4332-A344-C6F6067B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4C8657-7F03-4E48-92B7-6DE5CAAB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510621-5444-4397-A7AD-23408325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5BA425-F740-4395-8AFB-1AD312BF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967-49E7-4A2E-97C1-CC7DBE2E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0197-B1F7-40B6-84FE-A9779AD0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A890-7C4C-4548-ADC1-1433AA6F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0D8E-E230-441F-A427-9C2746A1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1014-33FF-4515-BFB0-1FBF4B79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C0EE-92CE-48C9-8F18-1170B4C5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2AA99-B859-405A-B68D-23769665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9688E-A53E-4936-9D36-FB41D08B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4FE08-0BEF-4FFB-B4C1-0E2548ED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CB8D5-8FF2-4604-944A-376B8325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CBEAD-D0B5-4057-83DC-D1AFDBF3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D267-77FE-449E-BA63-A3FEBB07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6B63B-F2C3-4221-B97D-0CCCCD10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DD7B0-102D-44D6-9D6D-136FC0CE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2EAB2-4AE9-448E-9655-7D635983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B9641-8811-44E2-A6A0-04133AB3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1A078-F1DA-4E5B-8D70-9D80DFD7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2DEC5-C2A0-4ADF-A4D8-28702C86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E0FC1-8DF5-4501-AB87-FDD89543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8C20F-8301-4C2D-AC9E-60CA404C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6EABB-8AC2-432D-8124-A266A207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554C0-EB58-40E4-84FD-E142BFF3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526-EB7F-459C-A6C8-A20D32E3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3D478-F2CA-4D3F-82BB-EC2090F4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3BD91-2FCB-49D0-A10D-7BE050CA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3521D-EA20-4D7E-976C-ACDAC4F9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789C1-AE47-47D3-8CD3-D5626001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FC471-D1CE-49FA-B467-C475E728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52C1B-EC5D-4AD6-944A-436CA38D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96608-371E-44B7-AD53-1399A904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9BFB6-D43C-4AEB-AA9F-411938DF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FA6D3-7F93-40B7-B73D-8DCF848F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C7CCC-FF5C-44DB-8F30-05D79731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C9C-360E-4542-B6BA-9A570E29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1E9A3-8E9D-4AEF-872B-8021C569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5DB9A-8495-46FC-9E1B-0154B42C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E0253-C974-47D0-8940-B98D7A14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93E85-5BA2-4556-884B-61C53299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A0D7C-F45A-43EF-8DCC-AE3D97D5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A69E0-67D2-45EF-B56B-78CAD5AA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B13D2-8B00-492F-93C5-A99BFAE1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19BFA-EFE3-4C1F-888A-2E4B9320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A2DCB-4492-4D7F-9746-91197524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C2668-732B-4BCF-9D57-6D2B309C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F77-69F8-4142-94EC-F214F1BE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CA455-A51D-49EE-A025-670B7093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00E44-9322-42BB-AF91-830E6B46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30DD9-2345-4553-95FE-7E4CD968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FFBF7-288A-412D-BDFD-3D191750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37210-47D4-4B33-A889-FEFE5FAA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D5177-A8D3-4F4A-991F-6E7AACEA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69243-1BEF-4BF8-9C9C-66F86578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43838-A597-4EAD-A008-64AF236A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33A2D-C490-469A-9BE2-BBBBFF85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B1F30-6498-464D-AE01-4E61FA27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D69-88F5-4412-A3E0-8DDB34C3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206EB-B657-4964-8B6D-040C1C29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CC73E-9637-44BF-8D89-17FA5670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CEB6D-9A3E-46EF-81D9-2AB1A0DB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35438-E9AD-47D3-B2A1-D250949B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202B7-9E00-428E-954C-57116DFC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31337-E535-4F70-87C7-CEC9C368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5F521-6514-47E2-B2C4-BBC329B4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A9AF9-CB7B-4F54-A248-05BEC7A4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D41B8-A2D6-449A-B829-E3125A73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AD798-FB1F-4EC3-9616-781EACF7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A8C3-A932-4C5D-A209-DB71D029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3FAB6-F035-4ED1-B820-A8077C3C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33908-11F6-4EA1-87FE-2F689185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7AFD8-23BE-4354-8A0F-7E9082A4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CBAD4-361E-4722-A02E-00592299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BB898-DEEF-4BFC-97F1-085FA855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DCEB2-EA6D-4A1D-A978-E6CEA0EE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EF1DF-EFA0-48A0-BC1C-97E1D2B4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39653-3DDC-4157-B68F-AC382B29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5CDE5-584F-4A72-96AB-2D111492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7281E-400C-436E-83D0-85DE11CB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B1F-967C-4846-B87A-6757AE8B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918E4-7913-4661-897C-31DC2591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461F3-378A-4A69-A783-822F5156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B9CF5-E6A1-440F-AE61-1E5702B7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A6AE0-B15E-4B21-AEAA-A83677B6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0E327-DC3D-4999-B6B5-213D6E1B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CA1F6-ECDA-4410-88E5-8CEDFBFE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6840E-A651-4C6A-AF6E-42A12A8C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A0952-DE58-4A60-948E-31DD248B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B862C-5CE9-4723-8FDA-F1EF5797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C0E1C-27F9-4F08-9833-172DF86E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5353-8134-4DBB-8B6C-D693248EC3C3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CA8B-568E-4126-8F71-9280AE4FE302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ABCD-645B-4B61-99EC-0AF4B9814BC9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EDD1-71C4-491A-80A3-0D9BA48285C4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5E1D-AECB-483F-B1AD-D97DB63D591F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8987-CC72-4528-8850-4085A59FF022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117F-6584-4C59-9697-4933DE16E32C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9A34-D5F4-4DA6-B17E-ACE00B8EA3F4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F089-A74F-46A1-8A90-3CE02659EFA9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3DD0-0CE8-4A01-BC19-D1A5AB178515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761B-BA0F-43BC-A33C-250C6D68C1FA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25D4-41DF-476C-AA9A-340920C48EA2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2CF8-9171-4CF0-ACCB-E3F9E4D8A5EE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BBD4-04DB-43B8-85A6-FEBF91722107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AC05-EF2B-4C61-9537-6A6A2FB84CEB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05C7-2220-4863-82FA-606C48B6ECEA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3"/>
          <a:stretch/>
        </p:blipFill>
        <p:spPr>
          <a:xfrm>
            <a:off x="603360" y="1427040"/>
            <a:ext cx="7937280" cy="654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88EA-99BD-40F2-9CC3-D8A31732A19B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6AC3-0173-46F3-BA00-E4C6D7FB4466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17D8-8C75-4A9E-8EC4-5AC8150C5FA2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F87F-BDA9-4533-8C30-C4E6496BB853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D30A-379A-4ECC-B264-11F2903E264B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97B2-89DC-4136-8656-4DAF0508C6A6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DBCC-D949-480C-9E23-FC24F60B5B7D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C317-9C4C-40E4-8777-5A3A28EEB563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8157-4BBC-4534-879C-042C5CE271D2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2C0F-DD41-4169-AFA9-134E5EA88B6E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EB9E-5D73-4954-ABEF-BFD23AA2BC9F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22C7-B2F3-4B07-8BA4-F67F51160D5E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8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9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0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1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2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3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93D1-76AF-4F94-BF76-D1EB46F8431A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5CC0-55B6-4207-B20E-E37B4E329AD9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7DC4-ABC9-4B92-95E8-4D981C503F02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A03D-419B-4D39-AF45-B30606688FE3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Rectangle 1" descr=""/>
          <p:cNvPicPr/>
          <p:nvPr/>
        </p:nvPicPr>
        <p:blipFill>
          <a:blip r:embed="rId2"/>
          <a:stretch/>
        </p:blipFill>
        <p:spPr>
          <a:xfrm>
            <a:off x="652320" y="1530360"/>
            <a:ext cx="7839360" cy="1646280"/>
          </a:xfrm>
          <a:prstGeom prst="rect">
            <a:avLst/>
          </a:prstGeom>
          <a:ln w="0">
            <a:noFill/>
          </a:ln>
        </p:spPr>
      </p:pic>
      <p:pic>
        <p:nvPicPr>
          <p:cNvPr id="683" name="Rectangle 2" descr=""/>
          <p:cNvPicPr/>
          <p:nvPr/>
        </p:nvPicPr>
        <p:blipFill>
          <a:blip r:embed="rId3"/>
          <a:stretch/>
        </p:blipFill>
        <p:spPr>
          <a:xfrm>
            <a:off x="652320" y="3213000"/>
            <a:ext cx="7839360" cy="871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WikiSpac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761760" y="16761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“Join” butt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ick a username that will allow me to assign participation point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llaborative Web Pag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Add material to any pa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Edit material already posted to a pa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Delete material posted to a pa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Create a new page with new materia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ateria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ext conten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yperlink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1182600" indent="-282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WebPages, Podcasts, Video, Audio, etc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Wiki Pages to Updat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ccounting Syste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ata Model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BR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w page, create one!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Deliverable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094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ad SAD Wiki chapter 9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gn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course agre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ue May 19t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rm Group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roup Assignmen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9200" indent="-349200">
              <a:lnSpc>
                <a:spcPct val="90000"/>
              </a:lnSpc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Teams of 5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Project requirements: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rief Description of a Proces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etailed Narrative of a Proces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 &amp; A Tabl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ata Flow Diagrams (context, level-0, and level-1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low Char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Implemented via Wiki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Process will come from Process Classification Framework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A6FA-2D18-4359-9D7E-025F23710C3B}" type="slidenum">
              <a:rPr b="0" lang="en-US" sz="11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What to Expec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 fontScale="99000"/>
          </a:bodyPr>
          <a:p>
            <a:pPr marL="345600" indent="-345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earning the concepts of AI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74720" indent="-33300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(old Chinese proverb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45600" indent="-345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pplying the concepts (Group Case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74720" indent="-33300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Aristotle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4648320" y="1981080"/>
            <a:ext cx="3848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adings/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Syllabus Highlight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r. Steven Horni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mail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shornik@bus.ucf.ed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urse Webpag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http://acg6415.wikispaces.com/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ffice Hours: Tuesday &amp; Thursday 4:30 – 5:4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; and by appoint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ffice: BA1 432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Use Meebo Widget in Wikispac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Text Book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53352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Accountants Guide to XBRL 5th  ed., by Clinton E Whit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vailable only at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orbel"/>
              </a:rPr>
              <a:t>http:www.skipwhite.com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0099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Systems Analysis and Design Wiki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hapter 2, 9 and 18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Get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Gliffy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Account – Web Based Modeling too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rade Component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0520" y="18284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xam 1 (Data Models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xam 2 (XBRL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usiness Process Model (Group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5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ML Assignment (6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6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articipation (Wiki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25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tal Points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535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rading Scal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533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A 4.00 100-93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A- 3.75 92-90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B+ 3.25 89-86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B 3.00 85-83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B- 2.75 82-80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C+ 2.25 79-76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C 2.00 75-73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4648320" y="2743200"/>
            <a:ext cx="38480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+ 1.25 69-6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 1.00 65-6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- 0.75 62-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Participation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ecture’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 In Class, Ask Questions, New Technolog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W / Cas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 In Class, Prepared to discu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ik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Quality of pos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Exam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ultiple choi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atch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hort-answe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oblem solving / model build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eneral Course Objective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You will be expected to prepare models of business processes, specifically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ata Flow Diagrams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low Charts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ain Understanding of XBR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BR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BL and XBRL-G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arily, to become consumers of information related to new technology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0:15:00Z</dcterms:created>
  <dc:creator>shornik</dc:creator>
  <dc:description/>
  <cp:keywords/>
  <dc:language>en-US</dc:language>
  <cp:lastModifiedBy>Steven Hornik</cp:lastModifiedBy>
  <dcterms:modified xsi:type="dcterms:W3CDTF">2011-05-13T13:34:06Z</dcterms:modified>
  <cp:revision>7</cp:revision>
  <dc:subject/>
  <dc:title>ACG 5405 Intro</dc:title>
</cp:coreProperties>
</file>